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27.png" ContentType="image/png"/>
  <Override PartName="/ppt/media/image49.png" ContentType="image/png"/>
  <Override PartName="/ppt/media/image5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.png" ContentType="image/png"/>
  <Override PartName="/ppt/media/image3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919-6C41-415C-819A-6B9A2EAB753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0A5-CEEF-4720-9C4B-7F91DA1D0F6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n’t jump to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ptop with Voice Recognitio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n’t read so need to talk to comput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edit 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never written on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tool for inclusion in class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84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84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993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120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8840" y="237600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3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120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8840" y="4414320"/>
            <a:ext cx="25023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993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5880" y="441432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880" y="2376000"/>
            <a:ext cx="37926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4414320"/>
            <a:ext cx="7772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19680" indent="-3196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9592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3412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961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58760" indent="-191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05732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64200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732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64200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2680" indent="353880" algn="ctr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44440" algn="ctr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74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274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274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riorywoods.middlesbrough.sch.uk/index.htm" TargetMode="External"/><Relationship Id="rId2" Type="http://schemas.openxmlformats.org/officeDocument/2006/relationships/hyperlink" Target="http://www.priorywoods.middlesbrough.sch.uk/index.htm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teracycenter.net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arfall.com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ames/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zmaths.co.nz/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rmyers.org/Math_Mania/Math_Games/Jude_e-Clock/clock.htm" TargetMode="External"/><Relationship Id="rId2" Type="http://schemas.openxmlformats.org/officeDocument/2006/relationships/hyperlink" Target="http://www.kidsolr.com/earlychildhood/page4.html" TargetMode="External"/><Relationship Id="rId3" Type="http://schemas.openxmlformats.org/officeDocument/2006/relationships/hyperlink" Target="http://www.bbc.co.uk/education/dynamo/den/clock/index.htm" TargetMode="External"/><Relationship Id="rId4" Type="http://schemas.openxmlformats.org/officeDocument/2006/relationships/hyperlink" Target="http://www.bbc.co.uk/education/dynamo/den/clock/index.htm" TargetMode="External"/><Relationship Id="rId5" Type="http://schemas.openxmlformats.org/officeDocument/2006/relationships/hyperlink" Target="http://www.time-for-time.com/interactive.htm" TargetMode="External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omeschoolmath.net/other_topics/tens_ones.php" TargetMode="External"/><Relationship Id="rId2" Type="http://schemas.openxmlformats.org/officeDocument/2006/relationships/hyperlink" Target="http://www.homeschoolmath.net/other_topics/tens_ones.php" TargetMode="External"/><Relationship Id="rId3" Type="http://schemas.openxmlformats.org/officeDocument/2006/relationships/hyperlink" Target="http://mathforum.org/t2t/discuss/message.taco?thread=2538&amp;n=9" TargetMode="External"/><Relationship Id="rId4" Type="http://schemas.openxmlformats.org/officeDocument/2006/relationships/hyperlink" Target="http://www.teachingideas.co.uk/maths/contents2.htm" TargetMode="External"/><Relationship Id="rId5" Type="http://schemas.openxmlformats.org/officeDocument/2006/relationships/hyperlink" Target="http://www.funbrain.com/tens/" TargetMode="External"/><Relationship Id="rId6" Type="http://schemas.openxmlformats.org/officeDocument/2006/relationships/hyperlink" Target="http://www.funbrain.com/tens/" TargetMode="External"/><Relationship Id="rId7" Type="http://schemas.openxmlformats.org/officeDocument/2006/relationships/hyperlink" Target="http://www.funbrain.com/tens/" TargetMode="External"/><Relationship Id="rId8" Type="http://schemas.openxmlformats.org/officeDocument/2006/relationships/hyperlink" Target="http://education.jlab.org/placevalue/index.html" TargetMode="External"/><Relationship Id="rId9" Type="http://schemas.openxmlformats.org/officeDocument/2006/relationships/hyperlink" Target="http://education.jlab.org/placevalue/index.html" TargetMode="External"/><Relationship Id="rId10" Type="http://schemas.openxmlformats.org/officeDocument/2006/relationships/hyperlink" Target="http://www.gamequarium.com/placevalue.html" TargetMode="External"/><Relationship Id="rId11" Type="http://schemas.openxmlformats.org/officeDocument/2006/relationships/hyperlink" Target="http://www.gamequarium.com/placevalue.html" TargetMode="External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athforum.org/" TargetMode="External"/><Relationship Id="rId2" Type="http://schemas.openxmlformats.org/officeDocument/2006/relationships/hyperlink" Target="http://mathforum.org/" TargetMode="External"/><Relationship Id="rId3" Type="http://schemas.openxmlformats.org/officeDocument/2006/relationships/hyperlink" Target="http://mathforum.org/" TargetMode="External"/><Relationship Id="rId4" Type="http://schemas.openxmlformats.org/officeDocument/2006/relationships/hyperlink" Target="http://nlvm.usu.edu/en/nav/index.html" TargetMode="External"/><Relationship Id="rId5" Type="http://schemas.openxmlformats.org/officeDocument/2006/relationships/hyperlink" Target="http://nlvm.usu.edu/en/nav/index.html" TargetMode="External"/><Relationship Id="rId6" Type="http://schemas.openxmlformats.org/officeDocument/2006/relationships/hyperlink" Target="http://www.aaamath.com/fra.html" TargetMode="External"/><Relationship Id="rId7" Type="http://schemas.openxmlformats.org/officeDocument/2006/relationships/hyperlink" Target="http://www.aaamath.com/fra.html" TargetMode="External"/><Relationship Id="rId8" Type="http://schemas.openxmlformats.org/officeDocument/2006/relationships/hyperlink" Target="http://www.visualfractions.com/" TargetMode="External"/><Relationship Id="rId9" Type="http://schemas.openxmlformats.org/officeDocument/2006/relationships/hyperlink" Target="http://www.visualfractions.com/" TargetMode="External"/><Relationship Id="rId10" Type="http://schemas.openxmlformats.org/officeDocument/2006/relationships/hyperlink" Target="http://www.visualfractions.com/" TargetMode="External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lakefolks.org/cnt/" TargetMode="External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inclusive.co.uk/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ce-centre.org.uk/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svt.se/hogafflahage/hogafflaHage_site/Kor/hestekor.swf" TargetMode="External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tuxtype.sourceforge.net/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cat.help@minedu.govt.nz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Free stuff for early learning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ynne Sil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Software for Learn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3200" y="2060640"/>
            <a:ext cx="260352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oss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nd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ame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uzzle &amp; Quiz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64000" y="2705040"/>
            <a:ext cx="48178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Symbol Suppor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38102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iory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www.priorywoods.middlesbrough.sch.uk/index.ht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85128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2664000" cy="1609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500720" y="4149720"/>
            <a:ext cx="316836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lphabe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433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 Centre Educ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www.literacycenter.ne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960720" cy="389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lphabe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www.starfall.co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lashca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unds, activities, so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-1016" t="17076" r="2749" b="10484"/>
          <a:stretch/>
        </p:blipFill>
        <p:spPr>
          <a:xfrm>
            <a:off x="2843280" y="3573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c0000"/>
                </a:solidFill>
                <a:latin typeface="Arial"/>
              </a:rPr>
              <a:t>Starfall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-2302" t="18822" r="2418" b="6154"/>
          <a:stretch/>
        </p:blipFill>
        <p:spPr>
          <a:xfrm>
            <a:off x="324000" y="2276640"/>
            <a:ext cx="2590560" cy="1395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-2336" t="19782" r="3323" b="4634"/>
          <a:stretch/>
        </p:blipFill>
        <p:spPr>
          <a:xfrm>
            <a:off x="1116000" y="4149720"/>
            <a:ext cx="2556000" cy="1400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132000" y="1341360"/>
            <a:ext cx="2519640" cy="1432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500720" y="3141720"/>
            <a:ext cx="2519280" cy="1490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227640" y="4869000"/>
            <a:ext cx="2519640" cy="154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300720" y="1341360"/>
            <a:ext cx="2232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Learning Media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456000" cy="21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74480" y="227664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ttp://www.learningmedia.co.nz/nz/online/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-90" t="18373" r="3685" b="5203"/>
          <a:stretch/>
        </p:blipFill>
        <p:spPr>
          <a:xfrm>
            <a:off x="4572000" y="3789360"/>
            <a:ext cx="4032360" cy="229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Learning Media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ies for year 5 and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ld and Wacky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ostcards in Space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ailing the Pacific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Post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Cart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ries for Year 7 t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Game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imming with Sharks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nk Junk Mailer and Other S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iaha and Other Stories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activities follow most of the stories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664000" cy="175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448000" cy="172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50880" y="98100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and Wa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aia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4753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bbc.co.uk/schools/game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r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7 Lite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-80" t="17187" r="1814" b="4049"/>
          <a:stretch/>
        </p:blipFill>
        <p:spPr>
          <a:xfrm>
            <a:off x="5003640" y="907920"/>
            <a:ext cx="3924360" cy="2265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-80" t="18380" r="29208" b="5229"/>
          <a:stretch/>
        </p:blipFill>
        <p:spPr>
          <a:xfrm>
            <a:off x="3348000" y="3284640"/>
            <a:ext cx="41036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Kids OLR </a:t>
            </a:r>
            <a:r>
              <a:rPr b="0" lang="en-NZ" sz="3200" spc="-1" strike="noStrike">
                <a:solidFill>
                  <a:srgbClr val="9c0000"/>
                </a:solidFill>
                <a:latin typeface="Arial"/>
              </a:rPr>
              <a:t>http://www.kidsolr.com</a:t>
            </a:r>
            <a:endParaRPr b="0" lang="en-US" sz="32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1894" t="18848" r="5503" b="6098"/>
          <a:stretch/>
        </p:blipFill>
        <p:spPr>
          <a:xfrm>
            <a:off x="826920" y="2421000"/>
            <a:ext cx="7056720" cy="4103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ideas UK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206" t="18821" r="3203" b="9127"/>
          <a:stretch/>
        </p:blipFill>
        <p:spPr>
          <a:xfrm>
            <a:off x="1979640" y="2349360"/>
            <a:ext cx="6192720" cy="3384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993240"/>
            <a:ext cx="819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entre for Assistive Technology 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Advice, support and information on assistive technology produc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CAT resources database (TK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CAT information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esources available for loan to trial with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39700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ZM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nzmaths.co.nz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nks and reviews for huge number of Maths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Sesame St and Spot the Dog to Compound Interest and University leve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429080" cy="25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lling Tim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mrmyers.org/Math_Mania/Math_Games/Jude_e-Clock/clock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http://www.kidsolr.com/earlychildhood/page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www.bbc.co.uk/education/dynamo/den/clock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http://www.time-for-time.com/interactive.htm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5219640" y="1628640"/>
            <a:ext cx="2613240" cy="187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580000" y="4005360"/>
            <a:ext cx="26132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Place Valu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www.homeschoolmath.net/other_topics/tens_ones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http://mathforum.org/t2t/discuss/message.taco?thread=2538&amp;n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http://www.teachingideas.co.uk/maths/contents2.htm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(other concep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here too that may help with number concepts in gener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6"/>
              </a:rPr>
              <a:t>www.funbrain.com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7"/>
              </a:rPr>
              <a:t>/tens/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g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9"/>
              </a:rPr>
              <a:t>education.jlab.org/placevalue/index.html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another g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NZ" sz="1600" spc="-1" strike="noStrike" u="sng">
                <a:solidFill>
                  <a:srgbClr val="651415"/>
                </a:solidFill>
                <a:uFillTx/>
                <a:latin typeface="Arial"/>
                <a:hlinkClick r:id="rId11"/>
              </a:rPr>
              <a:t>www.gamequarium.com/placevalue.html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more 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2"/>
          <a:srcRect l="1885" t="16734" r="4648" b="7014"/>
          <a:stretch/>
        </p:blipFill>
        <p:spPr>
          <a:xfrm>
            <a:off x="4788000" y="2637000"/>
            <a:ext cx="3529080" cy="2065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Fraction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The Math Forum 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2"/>
              </a:rPr>
              <a:t>mathforum.org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National Library of Virtual Manipulatives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5"/>
              </a:rPr>
              <a:t>nlvm.usu.edu/en/nav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Fractions 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7"/>
              </a:rPr>
              <a:t>www.aaamath.com/fr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Visual fractions  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9"/>
              </a:rPr>
              <a:t>www.visualfractions.com</a:t>
            </a:r>
            <a:r>
              <a:rPr b="0" lang="en-NZ" sz="1400" spc="-1" strike="noStrike" u="sng">
                <a:solidFill>
                  <a:srgbClr val="651415"/>
                </a:solidFill>
                <a:uFillTx/>
                <a:latin typeface="Arial"/>
                <a:hlinkClick r:id="rId10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Mr. Glosser's Math goodies  http://www.mathgoodies.com/lesson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King's List of on-line Math activities   http://www.k111.k12.il.us/king/math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859280" y="22050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lock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ttp://web.telia.com/~u16122508/progleg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virtual lego build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ppropriate for children as well as 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quires precise mouse movement and an ability to visualise in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392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irtual Manipul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nlvm.usu.edu/en/nav/vlibrary.html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se only acce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48000" y="981000"/>
            <a:ext cx="2581200" cy="1874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990880" cy="213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88000" y="4219560"/>
            <a:ext cx="3054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ath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n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ttp://www.cs.uu.nl/people/markov/kids/index.htm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is the traditional shape puzzle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mall pieces (triangles, squares, parallelograms etc) are used to create the shape given in the wind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lick and 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ariety of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3280" y="1413000"/>
            <a:ext cx="4118040" cy="4217760"/>
            <a:chOff x="4643280" y="1413000"/>
            <a:chExt cx="4118040" cy="421776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4643280" y="1413000"/>
              <a:ext cx="4118040" cy="42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4643280" y="1413000"/>
              <a:ext cx="4118040" cy="421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80880" indent="-3808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Draw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x 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327640" cy="39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Draw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2133720"/>
            <a:ext cx="42591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ing for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www.cs.uu.nl/people/markov/kids/index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k Over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2339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raft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380988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LTK's Crafts for Kids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ducational Activities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or Childre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ww.dltk-tea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hone number, scissor practi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phabuddie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intable Bingo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raft &amp; holiday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9280" y="3860640"/>
            <a:ext cx="38894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84720" y="1052640"/>
            <a:ext cx="4032360" cy="242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79740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990000"/>
                </a:solidFill>
                <a:latin typeface="Arial"/>
              </a:rPr>
              <a:t>Individual Learner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arning Needs Clearly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volves team around the student (including family/caregiv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gnises the individu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ports teaching and class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uld involve a formal or informal IE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chnology is one of a variety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nables the student to achieve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ss intervention the better - low tech options tried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usic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www.inclusive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Stage 1 music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use and onscreen key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c0000"/>
                </a:solidFill>
                <a:latin typeface="Arial"/>
              </a:rPr>
              <a:t>Freeware for Support</a:t>
            </a:r>
            <a:endParaRPr b="0" lang="en-US" sz="60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– Onscreen Keyboard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-n-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lakefolks.org/cn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scanning and dwel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47530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Switch 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2840" y="2376360"/>
            <a:ext cx="380988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ENSwi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inclusive.co.uk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Online or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rly swit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27640" y="2205000"/>
            <a:ext cx="4176720" cy="3652920"/>
            <a:chOff x="4427640" y="2205000"/>
            <a:chExt cx="4176720" cy="365292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4427640" y="2205000"/>
              <a:ext cx="4176720" cy="3652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3" name=""/>
            <p:cNvSpPr txBox="1"/>
            <p:nvPr/>
          </p:nvSpPr>
          <p:spPr>
            <a:xfrm>
              <a:off x="4427640" y="2205000"/>
              <a:ext cx="4176720" cy="365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80880" indent="-3808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Cursor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www.ace-centre.org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0" y="2276640"/>
            <a:ext cx="4041720" cy="286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Mouse Skill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2204640"/>
            <a:ext cx="397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s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ustomsolutions.us/mouse/index.htm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464000" cy="29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Mouse Click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608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ing Ho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svt.se/hogafflahage/hogafflaHage_site/Kor/hestekor.sw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start stop harm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140360" y="3716280"/>
            <a:ext cx="417672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Access - Keyboarding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ux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http://tuxtype.sourceforge.net/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845080" cy="2130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36734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xt Readers - Freewar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40971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ttp://www.readpleas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ighlights words as they are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384720" cy="2930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643200" cy="2648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00720" y="2060640"/>
            <a:ext cx="43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naturalreader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s words as they are r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oncept Mapping Freeware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2840" y="2376000"/>
            <a:ext cx="38098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ttp://cmap.ihmc.u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x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51280" y="2373480"/>
            <a:ext cx="4594320" cy="33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Role of Technology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40669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hrea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3524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(1 t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1989000"/>
            <a:ext cx="35290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</a:rPr>
              <a:t>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coming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120" indent="-352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9932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Considering Alternative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ord (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Powerpoint (v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Video (imov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NCEA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400" y="99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Information and resources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73200" y="237600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ct T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 (</a:t>
            </a:r>
            <a:r>
              <a:rPr b="0" lang="en-US" sz="3600" spc="-1" strike="noStrike" u="sng">
                <a:solidFill>
                  <a:srgbClr val="651415"/>
                </a:solidFill>
                <a:uFillTx/>
                <a:latin typeface="Arial"/>
                <a:hlinkClick r:id="rId1"/>
              </a:rPr>
              <a:t>cat.help@minedu.govt.nz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Panel -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ries -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Down Menu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Tool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Text to Speech</a:t>
            </a:r>
            <a:br>
              <a:rPr sz="4400"/>
            </a:br>
            <a:r>
              <a:rPr b="0" lang="en-US" sz="4400" spc="-1" strike="noStrike">
                <a:solidFill>
                  <a:srgbClr val="9c0000"/>
                </a:solidFill>
                <a:latin typeface="Arial"/>
              </a:rPr>
              <a:t>Windows Language Bar</a:t>
            </a:r>
            <a:endParaRPr b="0" lang="en-US" sz="4400" spc="-1" strike="noStrike">
              <a:solidFill>
                <a:srgbClr val="9c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5704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993240"/>
            <a:ext cx="814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Making the Most of Your Computer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cording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406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alking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0000"/>
                </a:solidFill>
                <a:latin typeface="Arial"/>
              </a:rPr>
              <a:t>Freeware – Google it!</a:t>
            </a:r>
            <a:endParaRPr b="0" lang="en-US" sz="4000" spc="-1" strike="noStrike">
              <a:solidFill>
                <a:srgbClr val="9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3:08:27Z</dcterms:created>
  <dc:creator>silcockl</dc:creator>
  <dc:description/>
  <dc:language>en-US</dc:language>
  <cp:lastModifiedBy>sue</cp:lastModifiedBy>
  <dcterms:modified xsi:type="dcterms:W3CDTF">2007-02-20T23:30:00Z</dcterms:modified>
  <cp:revision>119</cp:revision>
  <dc:subject/>
  <dc:title>Literacy for individual learners</dc:title>
</cp:coreProperties>
</file>